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507-4A45-4D8D-BDC9-941E1C6C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4F1-F525-4884-A84D-9554E0A1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EA1A-F411-4580-AE72-8A186FC4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ADED-15EB-4F37-927C-91F3B4DD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9DFF-28C4-4FB5-945A-78B4CC2E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75C9-F308-449E-8851-1347A044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F544-B682-4479-B6B5-BDFC0D3C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75E5-75E5-491A-AA05-81DE8E39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5C79-C21E-41E9-BAA9-15ED2266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B7F1-A338-409C-87E9-CA70E361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D1D4-7A13-480C-AD1D-E6C99ACD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884-7051-4AAE-AA79-093571EC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2364-07E8-411D-93F0-168AF757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887B-C229-4A91-8C8D-4B46DCBF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8275-3F71-4A97-AF74-9AAF26BF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89CB-E216-4BF4-93BA-D31D05D8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3556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9988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37160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3556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69988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A8AD-9898-4A23-98E3-737D09A5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89F4-4470-4732-8FF4-2B856509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70C-01AF-4EAF-B69D-D54F81F4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3A23-C2E7-4D5D-9602-670ECF9F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6797-77E4-429E-AF62-F404E191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C1B9-F360-4788-AB56-9B14B28E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40C-3403-4192-B666-6B23665B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4374-8658-400F-9FFF-CBC804F3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514F-CF1B-4683-A7B2-8F8D38D860E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DEFE-6A1C-4131-A8ED-74A588690A1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illsborough Township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ublic Schoo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igning a Performance Pay Plan fo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trict Admini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aft Value Stat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ccam’s Raz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pack and Underst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sessment 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valuation 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ensation 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D 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rategic Planning Proc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s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ard &amp; Administ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dministrative Debrief - Strength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04920" y="1219320"/>
            <a:ext cx="85341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sitive &amp; Respectful District 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utual Respect/Admiration Between Board/Ad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lented &amp; Experienced Admin &amp;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ll Intentioned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able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sitive Community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llingness to Experiment &amp;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dministrative Debrief - Challenge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04920" y="1143000"/>
            <a:ext cx="8534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certainty of Mo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gal/Contractual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dget Shortfalls in the Near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shing Existing Systems &amp; Expert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uch to D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dministrative Debrief - Challenge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52280" y="838080"/>
            <a:ext cx="8991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air - Reasonable, Expected, Systematic, Passes Straight Face Tes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rket Based &amp; Market Sensitiv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motes Reten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nhances Recruitmen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ands Up to Public Criticis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ransparent - Clear &amp; Understandab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Values Student Achievemen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arifies Expectation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bjective as Possib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ata Drive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Uses Multiple Measur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chievable Goal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hallenging Goal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ignificant Reward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 Adaptive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motes Professional Growth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nhances Prestige of the Distric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roves Data System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enerates Meaningful Conversa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verview for Toda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rodu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i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ision Making Mo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kis in 500 Words or L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formance Pay Prim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fine Values/Prior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fine Procedures/Proc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t Targets Go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troductions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ason E. Gla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er HS Teacher in K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 Dept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nior Consultant – Research &amp; Ev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incipal Consultant – Student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ualistar Early Lear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P Quality Ratings Divi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agle County Schoo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rector of Research &amp;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rector of H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 Poli S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 Public Poli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DD Education Leadership (Fingers Crossed!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rient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up Nor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isting or Develop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cision Making Mo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ensus Base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jority Rule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oberts Rules of Order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ikis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journey will be documented through an interactive and collaborative online tool called a “wiki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wiki is located here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8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ttp://hillsboroughperformancepay.wikispaces.com/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rformance Pay Prime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this called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rit Pa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formance Pa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rategic Compensatio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Kinds of Plans Exis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ason’s Typolo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 Steps to Developing a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fine Values/Priorities for the Pl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fine Procedures of the Pl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t Targets and Go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rformance Pay Prime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ep 1 –Define Values/Priori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i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ranspar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hiev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rket Competi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ultiple Measu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earch Ba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e also p.94-95 in Wallace on the Wik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rformance Pay Prime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ep 2 – Define Procedu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udent Assessment (Formulaic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ch Assessment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alysis Metho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wth versus Attai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valuation Based (Judgmenta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lid/Reliable Evalu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als that Distinguish Elite Perform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rket Sensi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rsonal Go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ds to Base or Bon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ividual or Grou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rformance Pay Prime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ep 3 – Set Targe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% of Students Proficient/Advanc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% of Students Making Year’s Grow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% of Students Improving over Last Y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iterion Ba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eting/Exceeding High Expect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03:44:07Z</dcterms:created>
  <dc:creator>test</dc:creator>
  <dc:description/>
  <dc:language>en-US</dc:language>
  <cp:lastModifiedBy>test</cp:lastModifiedBy>
  <dcterms:modified xsi:type="dcterms:W3CDTF">2010-01-08T19:08:14Z</dcterms:modified>
  <cp:revision>4</cp:revision>
  <dc:subject/>
  <dc:title>Hillsborough Township Public Schools</dc:title>
</cp:coreProperties>
</file>